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724-AEE0-4D90-9EA0-8AD899BC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299-DEE8-40E2-B02D-9156C809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64D-F6B5-4050-9D90-45361E21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63E-ACED-49D1-8BD5-ED39A0E4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94D-9196-4135-B92C-3DAE1F23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415-7D6D-4AED-BCE3-9ACA014A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D92-35CC-4159-8F5C-81F31C28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457-1E5A-44FD-9B17-89BB79E3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17B-1CFB-4B24-B415-ECB9A99E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DD8-6EDB-4FAE-8941-84D83D2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701-1C11-4AA9-9D3A-60F123F9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2AB-7950-4B09-A9CD-5B4DA4F2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1EDC-15E4-4A61-9327-1D43CF0B7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304920"/>
            <a:ext cx="5572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Casa De Mis Suenos</a:t>
            </a:r>
            <a:endParaRPr b="0" lang="en-US" sz="4800" spc="1" strike="noStrike">
              <a:ln w="1908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475240" y="1865160"/>
            <a:ext cx="35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Mi casa esta localizada en Mi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Ti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iete dormi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uarto b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c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Lujoso 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La piscina d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No tiene y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os salas de tel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jue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uarto d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Po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Terra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lu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37 Pine Hill Road, Miami 33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638680" y="380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3352680" cy="2955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6160" y="441972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Es el cuarto de las muchachas, muy bonita y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2480" y="533520"/>
            <a:ext cx="5410440" cy="361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5576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10880" y="495288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Es el dormitorio principal es muy bonita y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4120" y="5335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3624120" cy="266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3934080" cy="2946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937040" y="4303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20" y="380880"/>
            <a:ext cx="47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el cuartos de los muchachos, muy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191120" cy="299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3786120" cy="3029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29200" y="2971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Unicode MS"/>
              </a:rPr>
              <a:t>El es bano de grande y luj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648320" y="380880"/>
            <a:ext cx="41716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5334120" cy="347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4229280" cy="3137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08400" y="64620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La cocine es grande y lujo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20" y="5029200"/>
            <a:ext cx="44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La comedor es lujoso y un poco penqu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248160" cy="4109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5440" y="5410080"/>
            <a:ext cx="422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La piscina dentro el grande y </a:t>
            </a:r>
            <a:r>
              <a:rPr b="0" lang="es-ES" sz="1800" spc="-1" strike="noStrike">
                <a:solidFill>
                  <a:srgbClr val="9900ff"/>
                </a:solidFill>
                <a:latin typeface="Arial"/>
              </a:rPr>
              <a:t>diversión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3809880" cy="4000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9160" y="213372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television es grande y luj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657600" y="3505320"/>
            <a:ext cx="470520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67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9600" y="2971800"/>
            <a:ext cx="34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juegos grande y bo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162320" y="3448080"/>
            <a:ext cx="4981680" cy="3409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48440" y="358128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juegos grande y bo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6:58Z</dcterms:created>
  <dc:creator>capistrancad</dc:creator>
  <dc:description/>
  <dc:language>en-US</dc:language>
  <cp:lastModifiedBy>capistrancad</cp:lastModifiedBy>
  <dcterms:modified xsi:type="dcterms:W3CDTF">2012-05-22T17:21:43Z</dcterms:modified>
  <cp:revision>6</cp:revision>
  <dc:subject/>
  <dc:title>Slide 1</dc:title>
</cp:coreProperties>
</file>